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F29-5FCA-45D4-B0BB-4482C825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E78-11D3-452B-8256-FFBDBB7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1EC-354F-4F96-B4F2-7927B3A8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723-611B-478A-B9ED-21D4DF3A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7694-00D1-4A4B-A1AE-686E4AF3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081A-889A-4472-98A4-FECE3A1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A7EE-7B3B-4474-8F65-6593E27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167-A27B-4BCB-AD42-6BBF8CE5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F7E4-A601-4B80-A0F8-964E4D2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155E-CFCA-478F-82DD-ED5E8E2F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A8A5-1BBC-492D-9D65-4D7A195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74B-D831-46CF-80C3-D8600F2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5F6-8125-4F24-B4E5-CB0A192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B57E-F566-41EF-901C-EF27EE4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F02-6069-4681-BFDE-64E0CAB6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431-FAD2-461C-AF02-4BBADE33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7BE6-2A81-4286-8EE3-D113EB4E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FE4-E8C1-4438-A0E9-2AD0182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471-944B-469B-9243-7A22587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FA7-4B41-4BED-A408-10DBA91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5F8-73F2-4C33-A71B-A3464F6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7CE-F208-4C2A-A98D-927DBE8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8E1-699B-4ED6-AFB2-3BDA502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608-BDB7-447B-97A5-BC8000F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4F5-D7AC-437E-B20D-1C8448418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7F43-36DF-4A53-B4D2-B9B44B5548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pernatural" TargetMode="External"/><Relationship Id="rId2" Type="http://schemas.openxmlformats.org/officeDocument/2006/relationships/hyperlink" Target="http://en.wikipedia.org/wiki/Ghost" TargetMode="External"/><Relationship Id="rId3" Type="http://schemas.openxmlformats.org/officeDocument/2006/relationships/hyperlink" Target="http://en.wikipedia.org/wiki/Haunted_house" TargetMode="External"/><Relationship Id="rId4" Type="http://schemas.openxmlformats.org/officeDocument/2006/relationships/hyperlink" Target="http://en.wikipedia.org/wiki/Gothic_architecture" TargetMode="External"/><Relationship Id="rId5" Type="http://schemas.openxmlformats.org/officeDocument/2006/relationships/hyperlink" Target="http://en.wikipedia.org/wiki/Castle" TargetMode="External"/><Relationship Id="rId6" Type="http://schemas.openxmlformats.org/officeDocument/2006/relationships/hyperlink" Target="http://en.wikipedia.org/wiki/Darkness" TargetMode="External"/><Relationship Id="rId7" Type="http://schemas.openxmlformats.org/officeDocument/2006/relationships/hyperlink" Target="http://en.wikipedia.org/wiki/Death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glish Fun and Excit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y 5-Jun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5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ll of the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House of Usher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questions to think about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What is the narrator's connection the Usher'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hy has the narrator been summoned by Roderick Us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What was the narrator's first impression of the Usher ho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What are some elements that make the story Gothi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Based on what we know about the atmosphere and the creepiness of the     mansion, what do you think might happen nex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entences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e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all of the House of Us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ited states had controlled the land around the Panama canal sense November 1903 but on December 31 1999 that control returned to Pa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Mitchelle hole address is 209 Buena Vista Avenue Northport NE 68409 but you listed the street address as 209 Buena Vista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s:scale::__________: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dpaper:smooth:: ____________:bur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good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really sick and tired of your mess. It’s embarrassing to walk into our dorm and see your stuff everywhere. If you don’t clean up I am moving ou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so tired of your mess everywhere, what can we do to solve the problem. I am willing to work with you in any way you need. Let me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F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-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-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-The R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-The man in the poem, Homer’s character in the cl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Poem, follow Poe’s example. (At least 6 lin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-Were you real or in the man’s m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F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nent features of Gothic fiction include terror (both psychological and physical), mystery, the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upernatur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ghost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aunted hous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Gothic architectu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castl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darknes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dea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decay, doubles, madness, secrets, and hereditary cur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8:34:11Z</dcterms:created>
  <dc:creator>VMS</dc:creator>
  <dc:description/>
  <dc:language>en-US</dc:language>
  <cp:lastModifiedBy>VMS</cp:lastModifiedBy>
  <dcterms:modified xsi:type="dcterms:W3CDTF">2009-08-25T18:28:25Z</dcterms:modified>
  <cp:revision>3</cp:revision>
  <dc:subject/>
  <dc:title>English Fun and Exciting</dc:title>
</cp:coreProperties>
</file>